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322-4B9A-43E2-BC1B-D424B50C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A2E-4FED-44E7-A5D3-5EF56B82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FBA-D458-4714-AC3D-3EB70476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4D9-1F96-44C9-A4FF-986138DE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412-99A9-448A-8091-21C6EB87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F53-ED58-4B4A-BD63-BBD1FC5C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9D7-82EF-4EAF-AE77-86B04184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493-4CE3-46D4-B4E7-6D71CF75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85C-7A60-4447-8FAE-58C351A6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E24-5AA5-48A1-AB79-36185FC1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66D-8BC4-4308-913C-AF46F52F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28E-3D1D-4974-B29E-D1745ED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C4A8-6392-49DF-9A23-9F0789ABF1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361040"/>
            <a:ext cx="7093080" cy="24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رب إستعملني لسلام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4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رب، إستعملني لسلامِك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97964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فأضع الحب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حيثُ البُغض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والـمغفرة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حيثُ الإساءَة،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7944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والحقيقةَ حيثُ الضلال،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48000" y="247680"/>
            <a:ext cx="673236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9880" y="182736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ستعملني لسلامك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3:46Z</dcterms:created>
  <dc:creator>Charbel Azar</dc:creator>
  <dc:description/>
  <dc:language>en-US</dc:language>
  <cp:lastModifiedBy>ف</cp:lastModifiedBy>
  <dcterms:modified xsi:type="dcterms:W3CDTF">2006-04-01T18:17:07Z</dcterms:modified>
  <cp:revision>6</cp:revision>
  <dc:subject/>
  <dc:title>PowerPoint Presentation</dc:title>
</cp:coreProperties>
</file>